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9CA-5962-4402-8F4A-CC302D9D5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CAAE-117C-45A6-9F73-58FE7FF9D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9CC-06ED-4DE0-87F0-82DCBA4B4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46FF-2FE9-493C-9A78-06E26044A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6925-A04C-41C6-B924-626476E83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0DB7-E160-4616-8191-768A90B4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47F4-4472-4A7A-9E7F-E72BDB921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63F44-26C2-4B2F-A038-1DACF60C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A311-6D11-422D-BC67-F56A7CB3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4A76-2847-4A23-9157-F5E6B6817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788F-BAF1-4721-800B-3F5B52E8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55F-5CD4-4DA1-8CCD-35E68024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5C23-7591-42E3-BEA6-440CC134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4C3C-188D-4333-986E-1552DB2F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20E27-C6E8-494B-9C42-9F44B6C3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8B002-C39E-4899-8F78-F65D1FB5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AD01-5C08-41BF-BD2B-1AFD993BA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D3BB-5698-4414-8D32-363B59EE4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8D63-990E-4EC9-916A-59E87C1B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E948-2097-4D45-928F-CDBD1E24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4CF-B21F-4D55-B277-47260532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BCF-77F9-4973-B48A-F8CF829D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C4AF-15D9-483C-9EBC-05F060EB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FDE-EF29-4B1A-9744-034C4BD7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B1CD-0AE7-4A9E-9FF1-B57F21B09F7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C2C3-13A2-49EF-8F7B-B6F9DC40B2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486040" y="533160"/>
            <a:ext cx="2971800" cy="30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</a:t>
            </a:r>
            <a:r>
              <a:rPr b="0" lang="en-US" sz="4800" spc="-1" strike="noStrike" baseline="30000">
                <a:solidFill>
                  <a:srgbClr val="b2b2b2"/>
                </a:solidFill>
                <a:latin typeface="Arial"/>
              </a:rPr>
              <a:t>2</a:t>
            </a: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eaMS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Game Nigh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257440" y="388620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your group numbe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or prize entr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5499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rzano’s Six Step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 Six:  Periodically, students are involved in games that allow them to play with the ter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y the way: None of the research supports copying the definition from the back of the book and using it in a sente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bo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view the rules (see handou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teams of 4-5 play against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again – use clues related to math and science content – goal is to review, not just guess the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boo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list of words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from HAPGs, etc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de list by number of cla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ve groups make Taboo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erate a set of cards by compiling all cards from all classes (easy to make 15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y game using entire set with each class in 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learn while making cards and while play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aboo Review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your group to make at least six ca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op: vocabulary w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eted list of three “taboo” wo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sure you do not make all key words tabo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this card help others learn this vocabular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Objective: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o learn ways to make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view engaging, </a:t>
            </a:r>
            <a:br>
              <a:rPr sz="4400"/>
            </a:b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including an understanding of research-based strategies.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b2b2b2"/>
                </a:solidFill>
                <a:latin typeface="Arial"/>
              </a:rPr>
              <a:t>Vocabulary, TAKS formatted questions, concep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ink a minute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n you are doing review activiti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r students authentically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engage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you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students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the ones doing the work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all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of your students working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$100,000 Pyrami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pai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person facing screen, other with back to scre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clues related to content area – make yourself review the vocabulary (goal is not to just guess the wo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 in order.  Don’t skip wor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usic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5410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v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5410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viol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95880" y="54244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p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3886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39006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hyth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252900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co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5E/7E Model of Instruction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00200" y="539604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ng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5396040"/>
            <a:ext cx="20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lai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410080"/>
            <a:ext cx="21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plo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871800"/>
            <a:ext cx="23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abo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38718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ici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33920" y="2514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qui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DN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47800" y="5029200"/>
            <a:ext cx="290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ouble Heli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81280" y="54100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ucle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48200" y="542448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le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14760" y="388620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den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14840" y="3505320"/>
            <a:ext cx="262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hosphate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52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u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914400" y="1752480"/>
            <a:ext cx="7391520" cy="4648320"/>
          </a:xfrm>
          <a:prstGeom prst="triangle">
            <a:avLst>
              <a:gd name="adj" fmla="val 5000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ath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3200400"/>
            <a:ext cx="2362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33720" y="4800600"/>
            <a:ext cx="4876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572000" y="320004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8006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548640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19200" y="5410080"/>
            <a:ext cx="290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a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29040" y="5410080"/>
            <a:ext cx="26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ti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24520" y="5424480"/>
            <a:ext cx="276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52760" y="388620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l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3457440"/>
            <a:ext cx="26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rizont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05320" y="2529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qu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Building Academic Vocabula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 Steps to Effective Vocabulary Instru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Robert Marz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02:36:10Z</dcterms:created>
  <dc:creator>HISD</dc:creator>
  <dc:description/>
  <dc:language>en-US</dc:language>
  <cp:lastModifiedBy>HISD</cp:lastModifiedBy>
  <dcterms:modified xsi:type="dcterms:W3CDTF">2009-01-27T20:39:17Z</dcterms:modified>
  <cp:revision>6</cp:revision>
  <dc:subject/>
  <dc:title>A2TeaMS Game Night</dc:title>
</cp:coreProperties>
</file>